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11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5E3F1-6D47-4DE4-A432-7E03B8E6CA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6A7E9-C15E-431B-8237-8C4DF865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15818-3B8E-40C6-BD06-AB834802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2E047-6B7F-423C-AD25-6CDDB395E7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2AA50-C24E-4BBE-8108-52E5F121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310F9-BF5E-4FA5-9293-7A921A92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E56CD-3A81-4435-9F59-F1A4642B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101A4-F7B4-4C54-8217-E1A03DEF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E7A25-D8BB-416B-841C-238DAB34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4676E-0508-4C7E-826B-E3DA2A9D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B8C6E-9D41-4AE0-BE0E-890575DB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38F25-41F3-4E9D-AD02-BAD56B21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D9B4-C43E-4154-B17A-B755157C5A60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68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Requested Status Re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homas Neu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28-Feb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500280"/>
            <a:ext cx="83185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 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homas Neu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RD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Andreas L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O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Kristina Nor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an Streck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148A8-68FE-4F01-992E-8BFC9BC586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68 BOM (as of S3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305920" cy="532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8C65C-B785-4BAE-BAEA-5314B82469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27320" y="374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04640"/>
            <a:ext cx="7931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988920"/>
            <a:ext cx="8280360" cy="523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E2A74-AEBB-4172-B855-72B82542CF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>
            <a:off x="7667640" y="2205000"/>
            <a:ext cx="0" cy="38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83600" y="6137280"/>
            <a:ext cx="5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76360" y="5837400"/>
            <a:ext cx="741672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19280" y="2494080"/>
            <a:ext cx="14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052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57440" y="249408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60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65080" y="2494080"/>
            <a:ext cx="180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068360" y="2508120"/>
            <a:ext cx="1800" cy="3368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344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076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81800" y="2494080"/>
            <a:ext cx="14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084360" y="2495520"/>
            <a:ext cx="180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8980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093080" y="2495520"/>
            <a:ext cx="288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5960" y="2166840"/>
            <a:ext cx="4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3440" y="2664000"/>
            <a:ext cx="1008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5080" y="216684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ilot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97800" y="249408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0108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604360" y="2495520"/>
            <a:ext cx="144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2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27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30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35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38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43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6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51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54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59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43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7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723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75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908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108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344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4032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5960" y="267012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3080" y="2664000"/>
            <a:ext cx="1944720" cy="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26160" y="216684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amp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665440"/>
            <a:ext cx="504720" cy="4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44720" y="2160720"/>
            <a:ext cx="79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.3 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81440" y="216072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81440" y="2664000"/>
            <a:ext cx="3589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5639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6891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e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1268280"/>
            <a:ext cx="43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129528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3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129528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4360" y="129528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S (57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5164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5636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6108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281448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8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84640"/>
            <a:ext cx="30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1129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5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5960" y="4543560"/>
            <a:ext cx="4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53080" y="501336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5800" y="454356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ilot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5960" y="501984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75640" y="5013360"/>
            <a:ext cx="1512720" cy="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454356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amp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5014800"/>
            <a:ext cx="504720" cy="5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17800" y="4537080"/>
            <a:ext cx="79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.3 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1440" y="453708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81440" y="5013360"/>
            <a:ext cx="3589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494028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5157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3272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744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4216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5661000"/>
            <a:ext cx="30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548964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3892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108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5344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06548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e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3645000"/>
            <a:ext cx="43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367200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3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16720" y="367200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4360" y="367200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S (5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321300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1/ S25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551664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5013360"/>
            <a:ext cx="504720" cy="4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89440" y="4537080"/>
            <a:ext cx="3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3FF33-F89F-4B6E-A0F9-DE60CCF7C9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 Hardware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ront Cov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“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South Catchers” break off Front Cover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During Clip On Battery Li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During Free Fal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Qualification of this solution was done with B1+, Reference Dimension and Min. Force fixed within TTD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Problem has been re-occurred with B3 again.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ChiChen does not ensure Process Stability tough specified within TT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Reference Dimension was not communicated correctly from Lumberg (Integrated Supplier) towards ChiChe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</a:rPr>
              <a:t>Solution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Tooling has been improved 2 times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arts with first improvements at factory since 16-Feb-06, but mixed with old parts (only 0.1% failure)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arts with final improvements at factory since 27-Feb-06, clean delivery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21906" t="31188" r="5027" b="14262"/>
          <a:stretch/>
        </p:blipFill>
        <p:spPr>
          <a:xfrm>
            <a:off x="1042920" y="1549440"/>
            <a:ext cx="3168720" cy="1774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288000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ACE9E-EF50-4DDC-BDB8-4485340AC7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 Hardware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ront Cov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981000"/>
            <a:ext cx="8367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“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Side Keys” clamping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Bad Tactile Feeling of lower Side Key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Qualification of this solution was done with B1+, based on Parts out of Prototype Tooli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Problem has been occurred with B2.3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Lumberg has made a mistake with the mass Production Tooling (Parts too big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ost galvanizing process not stable, thus galvanic aggregates at some area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</a:rPr>
              <a:t>Solution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Side Key Tooling has been improved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Improved Parts at factory since 27-Feb-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Rear Cover Tooling has been changed (in order to increase stability over mass production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First Parts out of modified tool expected at factory 09-Mar-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CE29D-3141-4AD4-9396-D9685519BA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tatus Softwar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2947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DS declared based upon SVN22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nCCPI: 740000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Return Rate: 8%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Following SWV have been released by QM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0 for E+ onl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1 for 2.5k max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2 unlimit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SW- Operator Approval</a:t>
            </a:r>
            <a:br>
              <a:rPr sz="1800"/>
            </a:b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3573360"/>
          <a:ext cx="8207280" cy="2587680"/>
        </p:xfrm>
        <a:graphic>
          <a:graphicData uri="http://schemas.openxmlformats.org/drawingml/2006/table">
            <a:tbl>
              <a:tblPr/>
              <a:tblGrid>
                <a:gridCol w="1160280"/>
                <a:gridCol w="698760"/>
                <a:gridCol w="1083960"/>
                <a:gridCol w="1236960"/>
                <a:gridCol w="4027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</a:t>
                      </a:r>
                      <a:r>
                        <a:rPr b="0" lang="en-US" sz="1800" spc="-1" strike="noStrike" baseline="30000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Ship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7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4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lease expected with SVN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V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ot li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1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3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ccording to O2 demand, all certificated have to be in place -&gt; 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6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4.02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mited Release with SVN20. Unlimited 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35280" y="400536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835280" y="443700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835280" y="522936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835280" y="5734080"/>
            <a:ext cx="360360" cy="2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AF1F5-FEA6-4034-BA98-27196A1FB1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Price/ Volume Evalu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0280" y="5013360"/>
          <a:ext cx="8218440" cy="1192320"/>
        </p:xfrm>
        <a:graphic>
          <a:graphicData uri="http://schemas.openxmlformats.org/drawingml/2006/table">
            <a:tbl>
              <a:tblPr/>
              <a:tblGrid>
                <a:gridCol w="1089000"/>
                <a:gridCol w="1297080"/>
                <a:gridCol w="1295280"/>
                <a:gridCol w="1297080"/>
                <a:gridCol w="1295280"/>
                <a:gridCol w="122400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B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urn 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 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294.092.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32.750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17.216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05.46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99.79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4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2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58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58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1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6443640" y="981000"/>
            <a:ext cx="24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Quotation; K.Y. Lee, 17.01.06 BenQ Brand 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…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"More important is [average selling price] and [profit] margins," Mr. Lee sai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5897520" cy="389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C2BF5-AD68-49F8-9A69-DB3275883F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ajor Problems during Project Realiz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Assembly of Front cov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Gluing of Mg Screw Bosses not stable over pro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Project Budget, BOM and Ramp Up Quant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ttery Release Mechanis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Battery Release Mechanism not Fun to u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“South Catchers” break off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Project Budget, BOM and Ramp Up Quantity and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Availability/Yield of Front Cov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necessary due to problems abov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Tool Crashes shortly before Ramp U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Ramp Up Quantity and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Keypad Qualit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Double Click of Navi R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Impact (2</a:t>
            </a:r>
            <a:r>
              <a:rPr b="0" lang="en-US" sz="1600" spc="-1" strike="noStrike" baseline="30000">
                <a:solidFill>
                  <a:srgbClr val="3a0e66"/>
                </a:solidFill>
                <a:latin typeface="Minion"/>
              </a:rPr>
              <a:t>nd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 source not yet released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CE00F-F831-4742-8BC1-378EC884AB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ajor Problem Causes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re Development done within Product Developmen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Metal Hous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Metal Keypad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Slim Design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Selection of in proper Suppli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lection was based on Metal Case only, assembly concept was not taken into accou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Techn. Proposals (Screw Bosses/ South Catchers) have not been reviewed thoroughl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Communication was not perfect due to local and cultural distanc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tegrated Supplier Concep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nterfaces and Responsibilities not well structur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Mismatch between specifications/ requirements given to Sub Supplier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Very Long Lead Times/ Complicated Logistic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Migration Siemens -&gt; BenQ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Lost Enthusiasm of some Project Team Members located in Ulm due to new site strateg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Permanent change of Team Members (Headcount Reduced to 60 at Ulm Site 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4441A-8EE3-4BDA-AE28-93AB0C917D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9E711-4F0E-47AA-8CA9-FD551D721A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cent Achieve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DS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23.02.06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24.02.06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Ramp Up Quantity reduced to 60k until end of 03/06 (vs. 110k as of M1);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Current Number of S68 produced: 8.7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Current First Pass Rate: 88% (&lt;1% Side Keys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utlook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S4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31.05.06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31.05.06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3FF33-47F8-4221-B30A-1C76A0D2EE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356000" y="1125360"/>
            <a:ext cx="4608720" cy="10522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 declared on February 23, 2006 vs. M1 target of February 24,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2276640"/>
            <a:ext cx="4608720" cy="37738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Orders (78k) exceed current ramp-up quantity (60k vs. 110k at M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TO (35k) is cover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TS (43k): 25k are covered, 18k not cover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ly only one keypad supplier (DK UIL) release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elivery reliability for Mechanical parts from Lumberg (Front Cover, Rear Cover and Battery Cover) not giv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Manual 100%-control is in place due to breaking south catchers -&gt; New parts arrive 27-Feb-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Still ~ 80 % yield due to side key tact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smetically quality of C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eceiver falling off at assembl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ixed delivery CR (with/without rework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700440" cy="39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B38D7-594F-403E-8A46-81A02DA797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981000"/>
            <a:ext cx="4680000" cy="45010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ixation of Nano I/O connector still problemat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actility of side keys still critical . Tool modification done, but parts out of the modified tool not available before 28-Fe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attery cover fixation still not sufficient, modified parts expected end of this week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igh Failure rate of drop Tests; Strong deformations of front cover (accepted by PM) which lead to difficulties in pressing the keys (cosmetic and handling issu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tic load resistance of LCD glass and display lens not high enough. Breakage with 120N possible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weat resistance and release of Ni-Ions of you DK-UIL keypad still not as expect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ystem 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 approvals and certificates are avail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uct Qua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: 16% (SW+HW) at Delivery Start. RR over lifecycle 12.5%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70044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A132A-F81B-4F2D-9DC6-A155B83B3A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6524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easures, Responsibilities and Due Date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8360" y="1279440"/>
          <a:ext cx="7991280" cy="2941560"/>
        </p:xfrm>
        <a:graphic>
          <a:graphicData uri="http://schemas.openxmlformats.org/drawingml/2006/table">
            <a:tbl>
              <a:tblPr/>
              <a:tblGrid>
                <a:gridCol w="1079280"/>
                <a:gridCol w="3311640"/>
                <a:gridCol w="1008000"/>
                <a:gridCol w="993960"/>
                <a:gridCol w="15984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-Gate Ax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w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00% manual Insp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e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8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Doer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stall SD-QM employee at C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0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alf Ziemins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crease number of shifts per 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1-Mar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Doer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Front C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Battery C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4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Side K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Injection Parameter of Display L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e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eat Tests test to verify improv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3-Mar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efan Bisch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8E91C-5052-4FEB-8FBB-F5AACB9781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The S68 DS Milestone has been declared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S68 Project Team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23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Head of CM Phil Mulholland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23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Head of PHE  Dr. Jochen Eickhol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28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378936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08464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242100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447840" cy="480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447840" cy="480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364000" y="4892760"/>
            <a:ext cx="447840" cy="4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E6FEC-9062-4067-8873-5FD64F167F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D56B5-6991-4BFC-86E4-B78E8D5707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inancial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208720" cy="545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EB02D-B99D-43C0-8D65-8A9DD579F1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68 Budget (as of 31st January 06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981000"/>
          <a:ext cx="6121440" cy="30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81000"/>
                    <a:ext cx="612144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84360" y="4437000"/>
          <a:ext cx="5343480" cy="1609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437000"/>
                    <a:ext cx="534348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6443640" y="476280"/>
            <a:ext cx="2438280" cy="57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ccount: E981-03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0 declared 13.07.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Originally planned 31.03.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1 declared 28.09.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3 planned 31.05.2006            (originally 31.07.20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fforts after M3: 0‘45 M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Platform:</a:t>
            </a: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4/05:  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1/8 of X75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Decision of Sep 05: migration to Rel.1 </a:t>
            </a:r>
            <a:r>
              <a:rPr b="1" lang="de-DE" sz="1000" spc="-1" strike="noStrike">
                <a:solidFill>
                  <a:srgbClr val="ababab"/>
                </a:solidFill>
                <a:latin typeface="Wingdings"/>
                <a:ea typeface="Wingdings"/>
              </a:rPr>
              <a:t>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 no platform costs of           X85 SG2 Rel.2 Platfor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5/06: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   ¼ of X75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8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EGK-Factor: 85er G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3/04: 1,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4/05: 2,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5/06: 2,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Forecast includ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530.000 € charging of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tual includ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+ 256.000 liabil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FFBAC-5824-464F-895A-2882E830A9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Thomas Neumann</cp:lastModifiedBy>
  <dcterms:modified xsi:type="dcterms:W3CDTF">2006-04-05T08:56:16Z</dcterms:modified>
  <cp:revision>191</cp:revision>
  <dc:subject/>
  <dc:title>PowerPoint 簡報</dc:title>
</cp:coreProperties>
</file>